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7DE5-82C4-4FE0-BE1D-79FEBA101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8DB8-2830-4B46-9A39-3383B145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8D9F-3E83-40B1-8C7A-55F708AEA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A8AE-AFCD-4D9A-9C9E-14567282A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C79A-0045-4D79-AE41-A3CEFF06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7959-CCAF-42DC-8F30-B5863186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91D9-CD6C-4C58-A25C-6E1AA3BB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5B9D-42DE-4D9D-A4F3-49D125160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3859-0719-4513-8A70-D093161F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EEF3-FC7A-4D52-9FB4-BA389FCE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4D99-431E-4061-9CAD-0EAC297B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31B5-1131-469F-8F58-8AE80967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5F0C-C82F-4F93-ABF7-06ABB7B60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1916280"/>
            <a:ext cx="7488000" cy="26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</a:rPr>
              <a:t>ORÇAMENTO PÚBL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Ênfase à Interligação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PA/LDO/LOA/Alterações Orçamentá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468360" y="1125360"/>
            <a:ext cx="8209080" cy="44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réditos Adicionais (Retificadores do Orçamen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A autorização legal para a realização da despesa pública constitui um crédito, o qual poderá ser orçamentário ou adiciona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 crédito orçamentário (inicial ou ordinário), vem a ser a despesa autorizada mediante inclusão da respectiva dotação na Lei Orçamentári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Já os créditos adicionais são autorizações para despesas não computadas ou insuficientemente dotadas na Lei Orçamentária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ão abertos durante a execução do orçamento para a efetivação de ajustes ou adição de novas dotações orçamentárias não-consignadas na LO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71680" y="2133720"/>
          <a:ext cx="7956360" cy="3693960"/>
        </p:xfrm>
        <a:graphic>
          <a:graphicData uri="http://schemas.openxmlformats.org/drawingml/2006/table">
            <a:tbl>
              <a:tblPr/>
              <a:tblGrid>
                <a:gridCol w="2207880"/>
                <a:gridCol w="574848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CRÉDITOS ADICION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T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FINALID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UPLEMENTA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s destinados a reforço de dotação orçamentária já existente que se tornou insuficiente durante a execução do orçamento, decorrentes, geralmente, de erros de orçamentaçã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ESPECI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s destinados a despesas com programas ou categoria de programas (projeto, atividade ou operações especiais) novos, por não haver dotações orçamentárias anteriormente criadas. Sua ocorrência indica, geralmente, a existência de erros de planejament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EXTRAORDINÁR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s destinados a atender despesas imprevisíveis e urgentes, como as decorrentes de guerra, comoção interna, ou calamidade públic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74" name="Text Box 23"/>
          <p:cNvSpPr/>
          <p:nvPr/>
        </p:nvSpPr>
        <p:spPr>
          <a:xfrm>
            <a:off x="324000" y="148428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lassificação dos Créditos Adicionais (Lei nº 4.320/64, art. 4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539640" y="1125360"/>
            <a:ext cx="8280360" cy="37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Calibri"/>
              </a:rPr>
              <a:t>Forma de Abertura dos Créditos Adicion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0000"/>
                </a:solidFill>
                <a:latin typeface="Calibri"/>
              </a:rPr>
              <a:t>Os créditos suplementares e especiais serão autorizados por lei e abertos por decreto do Poder Executivo.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A autorização para a abertura de créditos suplementares poderá ser dada na própria lei orçamentária, até determinado limite. Os créditos especiais a autorização deve ser dada em lei específi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0000"/>
                </a:solidFill>
                <a:latin typeface="Calibri"/>
              </a:rPr>
              <a:t>Os créditos extraordinários independem de lei autorizativa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t-BR" sz="2200" spc="-1" strike="noStrike">
                <a:solidFill>
                  <a:srgbClr val="ff0000"/>
                </a:solidFill>
                <a:latin typeface="Calibri"/>
              </a:rPr>
              <a:t>mas sua abertura será feita por decreto do Poder Executivo,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que dará imediato conhecimento ao Poder Legislativo, justificando a urgência (calamidade pública, etc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428760" y="1071720"/>
            <a:ext cx="8280360" cy="55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Recursos para a Abertura de Créditos Adicion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Art. 43, §1º da Lei Nº 4.320/6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abertura dos créditos suplementares e especiais depende da existência de recursos disponíveis para acorrer à despesa e será precedida de exposição justifica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Consideram-se recursos, desde que não comprometid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–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o superávit financeir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purado em balanço patrimonial do exercício anteri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 – os provenientes de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excesso de arrecadaçã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I – os resultantes de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anulação parcial ou total de dotaçõ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rçamentárias ou de créditos adicionais, autorizados em lei;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V – o produto de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operações de crédit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utorizadas, em forma que juridicamente possibilite ao Poder Executivo realizá-las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428760" y="1285920"/>
            <a:ext cx="8319960" cy="40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Prazos de Vigência dos Créditos Adicion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alibri"/>
              </a:rPr>
              <a:t>Os créditos adicionais suplementares vigoram, desde sua abertura, até o fim do ano a que se refere o orçamento em execu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alibri"/>
              </a:rPr>
              <a:t>Os créditos especiais e extraordinários, vigoram até o final do exercício em que forem abertos, salvo se o ato de autorização </a:t>
            </a:r>
            <a:r>
              <a:rPr b="1" lang="en-US" sz="2000" spc="-1" strike="noStrike">
                <a:solidFill>
                  <a:srgbClr val="003399"/>
                </a:solidFill>
                <a:latin typeface="Calibri"/>
              </a:rPr>
              <a:t>for promulgado nos últimos quatro meses do exercício</a:t>
            </a:r>
            <a:r>
              <a:rPr b="0" lang="en-US" sz="2000" spc="-1" strike="noStrike">
                <a:solidFill>
                  <a:srgbClr val="003399"/>
                </a:solidFill>
                <a:latin typeface="Calibri"/>
              </a:rPr>
              <a:t>, quando poderão vigorar até o término do exercício subseqü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Calibri"/>
              </a:rPr>
              <a:t>A reabertura será feita por novo Decreto</a:t>
            </a:r>
            <a:r>
              <a:rPr b="0" lang="en-US" sz="2000" spc="-1" strike="noStrike">
                <a:solidFill>
                  <a:srgbClr val="003399"/>
                </a:solidFill>
                <a:latin typeface="Calibri"/>
              </a:rPr>
              <a:t>, que considerará apenas o saldo remanescente do crédito não utilizado no exercício anterio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alibri"/>
              </a:rPr>
              <a:t>Os créditos extraordinários só perduram enquanto viger a situação emergencial que justificou sua abertu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357120" y="785880"/>
            <a:ext cx="835344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cc"/>
                </a:solidFill>
                <a:latin typeface="Calibri"/>
              </a:rPr>
              <a:t>Os cuidados na Geração da Desp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Segundo o Art. 15 da LRF,</a:t>
            </a: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pt-BR" sz="1800" spc="-1" strike="noStrike">
                <a:solidFill>
                  <a:srgbClr val="ff0000"/>
                </a:solidFill>
                <a:latin typeface="Calibri"/>
              </a:rPr>
              <a:t>serão consideradas não autorizadas, irregulares e lesivas ao patrimônio público a geração de despesa ou assunção de obrigação que não atendam o disposto nos Arts. 16 e 17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, que basicamente sã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a) estimativa do impacto orçamentário-financeiro no exercício em que deva entrar em vigor e nos dois subseqüentes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alibri"/>
              </a:rPr>
              <a:t>b) declaração do ordenador de despesa de que o aumento tem adequação orçamentária e financeira com a LOA e compatibilidade com o PPA e com a LDO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c) demonstração da origem de recursos para seu custeio; comprovação de que a despesa criada ou aumentada</a:t>
            </a: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não afetará as metas de resultados fiscais, previstas no AMF, devendo seus efeitos financeiros nos períodos seguintes ser compensados pelo aumento permanente de receita ou redução permanente de despesa; 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d) existência de prévia dotação orçamentá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468360" y="476280"/>
            <a:ext cx="8353440" cy="55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alibri"/>
              </a:rPr>
              <a:t>Despesa Obrigatória de Caráter Continu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rt. 17 da LRF: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Considera-se obrigatória de caráter continuado a despesa corrente derivada de lei, medida provisória ou ato administrativo normativo que fixem para o ente a obrigação legal de sua execução por um período superior a dois exercíc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alibri"/>
              </a:rPr>
              <a:t>Trata-se de uma despesa atinente à manutenção e operação de serviç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alibri"/>
              </a:rPr>
              <a:t>A LRF exige: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Calibri"/>
              </a:rPr>
              <a:t>Origem de recursos para seu custei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Calibri"/>
              </a:rPr>
              <a:t>mecanismo compensatóri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quer seja incrementando receitas ou diminuindo despesas, demonstração do impacto orçamentário/financeir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compatibilidade com o PPA e L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71640" y="1700280"/>
            <a:ext cx="72723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onteúdo Básico do P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forme art. 165, inciso I, §1º da CF/88, a lei que instituir o Plano Plurianual estabelecerá as diretrizes, objetivos e metas da administração pública para as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despesas de capital e outras despesas decorrentes, bem como os programas de duração continua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26920" y="1773360"/>
            <a:ext cx="7705800" cy="39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forme §1º do art. 167 da CF,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enhum investimento cuja execução ultrapasse um exercício financeiro poderá ser iniciado sem prévia inclusão no PP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ou em lei que autorize a inclusão, sob pena de crime de responsabilidad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A lei orçamentária não consignará dotação para investimento com duração superior a um exercício financeiro que não esteja previsto no plano plurianu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u em lei que autorize a sua inclusão, conforme disposto no § 1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 art. 167 da Constituição (Art.5º, §5º da LRF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00000" y="765000"/>
            <a:ext cx="31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EXCE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2"/>
          <p:cNvSpPr/>
          <p:nvPr/>
        </p:nvSpPr>
        <p:spPr>
          <a:xfrm>
            <a:off x="826920" y="6093000"/>
            <a:ext cx="7667640" cy="3585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3"/>
          <p:cNvSpPr/>
          <p:nvPr/>
        </p:nvSpPr>
        <p:spPr>
          <a:xfrm flipV="1">
            <a:off x="2843280" y="4365720"/>
            <a:ext cx="3313080" cy="13730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4"/>
          <p:cNvSpPr/>
          <p:nvPr/>
        </p:nvSpPr>
        <p:spPr>
          <a:xfrm rot="18739800">
            <a:off x="2328840" y="918720"/>
            <a:ext cx="4343400" cy="432108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0033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6"/>
          <p:cNvSpPr/>
          <p:nvPr/>
        </p:nvSpPr>
        <p:spPr>
          <a:xfrm>
            <a:off x="1651320" y="2511720"/>
            <a:ext cx="2296440" cy="410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7"/>
          <p:cNvSpPr/>
          <p:nvPr/>
        </p:nvSpPr>
        <p:spPr>
          <a:xfrm flipV="1">
            <a:off x="5090400" y="2424600"/>
            <a:ext cx="2266560" cy="502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3564000" y="1268280"/>
            <a:ext cx="1884240" cy="78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Apo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Administr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3492360" y="3716280"/>
            <a:ext cx="2159280" cy="86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9900"/>
                </a:solidFill>
                <a:latin typeface="Times New Roman"/>
              </a:rPr>
              <a:t>Progra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9900"/>
                </a:solidFill>
                <a:latin typeface="Times New Roman"/>
              </a:rPr>
              <a:t>Finalís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3"/>
          <p:cNvSpPr/>
          <p:nvPr/>
        </p:nvSpPr>
        <p:spPr>
          <a:xfrm>
            <a:off x="3863880" y="2154240"/>
            <a:ext cx="1387440" cy="138744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3913920" y="263700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ov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3059280" y="6091200"/>
            <a:ext cx="3243240" cy="368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SOCIE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68360" y="260280"/>
            <a:ext cx="446436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POS DE PROGRAM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00000" y="1197000"/>
            <a:ext cx="77043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onteúdo Básico da LDO, cf. a Constitui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t. 165, § 2º da CF -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A lei de diretrizes orçamentárias compreenderá as metas e prioridades da administração pública, incluindo as despesas de capital para o exercício financeiro subseqüente, orientará a elaboração da lei orçamentária anual (.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4360" y="549360"/>
            <a:ext cx="7991280" cy="52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 LOA, cf. a Constitui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t. 165 - A lei orçamentária anual compreenderá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§5º, I - o orçamento fiscal; II - o orçamento de investimento das empresas; III - o orçamento da seguridade so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§ 7º - Os orçamentos previstos no § 5º, I e II, deste artigo, compatibilizados com o plano plurianual (...)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§ 8º - A lei orçamentária anual não conterá dispositivo estranho à previsão da receita e à fixação da despesa,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não se incluindo na proibição a autorização para abertura de créditos suplementar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e contratação de operações de crédito, ainda que por antecipação de receita, nos termos da le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4360" y="549360"/>
            <a:ext cx="7991280" cy="49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 LOA, cf. a Constitui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t. 166 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§ 3º - As emendas ao projeto de lei do orçamento anual ou aos projetos que o modifiquem somente podem ser aprovadas cas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- sejam compatíveis com o plano plurianual e com a lei de diretrizes orçamentár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§ 4º - As emendas ao projeto de lei de diretrizes orçamentárias não poderão ser aprovadas quando incompatíveis com o plano pluri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90720" y="909720"/>
            <a:ext cx="7902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PROGRAMA</a:t>
            </a:r>
            <a:r>
              <a:rPr b="1" lang="en-US" sz="2800" spc="-1" strike="noStrike">
                <a:solidFill>
                  <a:srgbClr val="fa0220"/>
                </a:solidFill>
                <a:latin typeface="Arial"/>
              </a:rPr>
              <a:t> - elemento central da integração do planejamento, orçamento e gestão, facilitada por meio da Portaria nº 42/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411280" y="2492280"/>
            <a:ext cx="4753080" cy="4105440"/>
            <a:chOff x="2411280" y="2492280"/>
            <a:chExt cx="4753080" cy="4105440"/>
          </a:xfrm>
        </p:grpSpPr>
        <p:sp>
          <p:nvSpPr>
            <p:cNvPr id="61" name=""/>
            <p:cNvSpPr/>
            <p:nvPr/>
          </p:nvSpPr>
          <p:spPr>
            <a:xfrm>
              <a:off x="3135600" y="3665160"/>
              <a:ext cx="3267720" cy="2932560"/>
            </a:xfrm>
            <a:prstGeom prst="ellipse">
              <a:avLst/>
            </a:prstGeom>
            <a:solidFill>
              <a:srgbClr val="9933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96640" y="2492280"/>
              <a:ext cx="3267720" cy="2932560"/>
            </a:xfrm>
            <a:prstGeom prst="ellipse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11280" y="2638800"/>
              <a:ext cx="3267720" cy="2932560"/>
            </a:xfrm>
            <a:prstGeom prst="ellipse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284720" y="573264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0220"/>
                </a:solidFill>
                <a:latin typeface="Arial"/>
              </a:rPr>
              <a:t>GEST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357192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0220"/>
                </a:solidFill>
                <a:latin typeface="Arial"/>
              </a:rPr>
              <a:t>ORÇ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63640" y="32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0220"/>
                </a:solidFill>
                <a:latin typeface="Arial"/>
              </a:rPr>
              <a:t>PLANEJ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4076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620640"/>
            <a:ext cx="842508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18900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INTEGRAÇÃO PLANEJAMENTO-ORÇ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17513" t="14564" r="16032" b="13585"/>
          <a:stretch/>
        </p:blipFill>
        <p:spPr>
          <a:xfrm>
            <a:off x="826920" y="765000"/>
            <a:ext cx="77756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12:35:37Z</dcterms:created>
  <dc:creator>468</dc:creator>
  <dc:description/>
  <dc:language>en-US</dc:language>
  <cp:lastModifiedBy>468</cp:lastModifiedBy>
  <dcterms:modified xsi:type="dcterms:W3CDTF">2011-08-02T14:11:24Z</dcterms:modified>
  <cp:revision>6</cp:revision>
  <dc:subject/>
  <dc:title>Slide 1</dc:title>
</cp:coreProperties>
</file>